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th Febr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DD8-7532-4907-8CF8-56979BEAA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8362-ADCD-4FC8-A910-405B6D723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6965-AE8F-4026-BC8B-678686BFA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449-C0CA-4AC7-B983-32F65A4C8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67B-D0BD-4672-A2F1-1175E3986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AE2-E42A-495A-B544-118BE59D6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4AEE-8F12-40DA-B0F1-B11033CB5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987-7AEF-4F8C-BE23-FC8609EDC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B00-909D-4C1A-B9D1-0CC8C7EC8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CBAD-9918-4260-ADDC-86F27D8B4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167-F6A0-4794-97F9-A464A8EDE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F89-0A2B-4191-95BF-634B416E6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E170-218C-4ACD-A2A6-6921137BA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EC2-0057-445D-B87A-A865487AA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3A42-419A-42E5-A67F-056BEA089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AD9D-FA69-42E7-B7A0-6A9DC1F85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89B-6625-4ED4-BFE1-A0DDE1C5F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F43-090F-47EB-A21E-94339171C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BC8-63B2-4174-BA94-118D77931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4065-82A3-4B09-A91F-D0CAF80B6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5CC8-3101-48E0-BEED-D252ABF91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F43-B905-4369-B7B0-4255F790C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8C6C-7531-4ECB-B558-37043E660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5B0-1F30-41F9-A208-D0FE42C15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CA1-DB10-4B2E-8467-7B3945F95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D5A2-8FAB-4850-9345-3C4E4DF19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220-BE0D-4FA7-B5F4-CF2DC3C75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214-7C39-4C36-955B-DB56768AD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C8E9-20C0-459E-8CF7-714FBACBA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C04-6773-4139-BC5C-24BFD841C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CD43-A3B2-4D3C-8E69-653CFB338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491-25F5-4598-90B5-A6A42455DD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41A2-591A-4EBD-AFF6-C9442B205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EAC-7CC1-4005-B158-DD5964294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Manipulat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9059-89AC-41F5-A682-795042A89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F17D-6C10-4A18-9F03-6FEA01277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000D-40A9-4050-B6B0-D02ECDC8C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7F52-8718-4B88-9082-D3CD5ED13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BCB6-EBAF-4660-AE24-DB06314D5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47DD-4618-410E-9492-DB1509DAB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5C83-9ED4-4B45-B12F-698E53AE6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A2EC-2F26-4711-B2B5-CAEF39F29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D8DF-5844-4BC4-B59E-35445DCEF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4328-1914-4610-943C-9FCA35312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CD22-B628-4867-B1A3-780B0B8BA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4E89-B95C-495A-909E-BB5454E2F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1C43-0269-46C1-A2E3-2C5B81D28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753-757B-493A-949B-2A063614BF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Manipula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ochim.human.cornell.edu/kb/stat_t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Outlin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ory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ng data (preparing for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ing existing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ing new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ing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SPS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example of statistical significanc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900000" y="6021360"/>
            <a:ext cx="61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Thanks to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ochim.human.cornell.edu/kb/stat_t.ht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for the coloured grap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524720" y="2276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0"/>
          <p:cNvSpPr/>
          <p:nvPr/>
        </p:nvSpPr>
        <p:spPr>
          <a:xfrm flipV="1">
            <a:off x="745164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 flipV="1">
            <a:off x="8317080" y="3499920"/>
            <a:ext cx="0" cy="79236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5"/>
          <p:cNvCxnSpPr/>
          <p:nvPr/>
        </p:nvCxnSpPr>
        <p:spPr>
          <a:xfrm>
            <a:off x="7524720" y="3933360"/>
            <a:ext cx="720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836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7527600" y="3500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2"/>
          <a:stretch/>
        </p:blipFill>
        <p:spPr>
          <a:xfrm>
            <a:off x="395280" y="4495680"/>
            <a:ext cx="4257720" cy="236232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468720" y="836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researchers will only want to carry out a statistical test on a certain cases of the dataset (e.g. only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quires a process in SPSS called “selecting da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s are selected according to their values on a particular variable (e.g. on variable “sex”, we select all those with value 1 – corresponding to “mal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414972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n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64000" y="414972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Sex with Label Values button off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3995640" y="4724280"/>
            <a:ext cx="57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8640720" y="4724280"/>
            <a:ext cx="503280" cy="50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118728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5940360" y="580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17080" cy="488772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anipulating data: Selec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859280" y="4869000"/>
            <a:ext cx="64944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95280" y="126828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eck the value number that you want to select by (in Variable 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5148360" y="2565360"/>
            <a:ext cx="50328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588000" y="2349360"/>
            <a:ext cx="208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three dots to open up the Values dialogu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5724360" y="2852640"/>
            <a:ext cx="93528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7132680" y="907920"/>
            <a:ext cx="20113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467240" cy="473400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lick on the Select Cases button (or find i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763640" y="2565360"/>
            <a:ext cx="2016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979640" y="4724280"/>
            <a:ext cx="187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3779640" y="2923920"/>
            <a:ext cx="1439640" cy="36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3995280" y="5013000"/>
            <a:ext cx="1513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35640" y="3070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elect “If condition is satisfied” and then click “If..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80000" y="501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Make sure that the unselected cases are “filtered” rather than deleted, or you will l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423280" y="981000"/>
            <a:ext cx="72072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1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253200" cy="44658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250920" y="3068640"/>
            <a:ext cx="180000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3276720" y="2637000"/>
            <a:ext cx="3585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41964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the “=“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80" y="57340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Choose the variable to select on and move it to the big box by click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1692360" y="1413000"/>
            <a:ext cx="504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875640" y="907920"/>
            <a:ext cx="226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need to tell SPSS how to select the case by writing a formula in the larg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of this as a statement starting “Select the case if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551640" y="458136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Decide the value that you want to select (e.g. 1 for mal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Press continue and OK/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2556000" y="2565360"/>
            <a:ext cx="43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395280" y="3644640"/>
            <a:ext cx="360360" cy="20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V="1">
            <a:off x="1692360" y="1844280"/>
            <a:ext cx="2872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348000" y="141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.e. “select cases if sex = 1 (male s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 flipV="1">
            <a:off x="2987280" y="3284640"/>
            <a:ext cx="576360" cy="24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059280" y="2708280"/>
            <a:ext cx="144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1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data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92720" y="2060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40360" y="1484280"/>
            <a:ext cx="50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go back to data view, all those cases that weren’t selected will be crossed (filtered) 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. Check that filtering look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160720" cy="3888000"/>
          </a:xfrm>
          <a:prstGeom prst="rect">
            <a:avLst/>
          </a:prstGeom>
          <a:ln w="0">
            <a:noFill/>
          </a:ln>
        </p:spPr>
      </p:pic>
      <p:sp>
        <p:nvSpPr>
          <p:cNvPr id="158" name="Oval 20"/>
          <p:cNvSpPr/>
          <p:nvPr/>
        </p:nvSpPr>
        <p:spPr>
          <a:xfrm>
            <a:off x="250920" y="1484280"/>
            <a:ext cx="136836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1618920" y="1736280"/>
            <a:ext cx="2521080" cy="1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lecting the main sample in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1125360"/>
            <a:ext cx="8820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the above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value that we want to select by in the variable “samp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Select Cases button to enter the Select Cases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 unselected cases are fi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If”, and then click on the “If” dialogue box so we can tell it what value we want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“samptype” and bring it to the main white box by clicking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“=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the value 1 for “main sam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continue and OK/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at any cases not main sample crossed out in data view to ensure we did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sometimes necessary to simplify a variable by combining two or more values (answers).  Reas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ying tests and findings (eg a variable listing different offences you might find it easier to combine all violent offences into one categ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s may be more reliable if there are more cases in each value of a variable (e.g. 100 cases for ‘violent offences’ against 10-15 for each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ests require dichotomous variables, so we might need to combine values into just tw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the values in a variable is known as “recod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2419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exactly the same process that we have to tell SPSS to do.  We tell it the old values and the new values, and g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859280" y="1413000"/>
            <a:ext cx="2160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619280" y="3429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1763640" y="47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932360" y="4581360"/>
            <a:ext cx="9349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55640" y="47628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hat quant data looks like: variable by cas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557360"/>
          <a:ext cx="8675640" cy="370980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735200"/>
                <a:gridCol w="1419480"/>
                <a:gridCol w="205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low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work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fema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upper midd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468720" y="1413000"/>
            <a:ext cx="9612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l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trum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trom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French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vi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double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f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clar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a6a6a6"/>
                </a:solidFill>
                <a:latin typeface="Arial"/>
              </a:rPr>
              <a:t>bas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859280" y="1413000"/>
            <a:ext cx="2160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B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Wood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Per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2050920" y="213372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61928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1835280" y="5300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835280" y="623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780000" y="12682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116000" y="1916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w you recode variables depends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question you want to ans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groups ma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your current groups work for futur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400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ke a note of all the values in the existing variable, and how you want them to be recoded.  Do this by looking at Value Labels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324320" cy="2733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0"/>
          <p:cNvSpPr/>
          <p:nvPr/>
        </p:nvSpPr>
        <p:spPr>
          <a:xfrm>
            <a:off x="395280" y="5013360"/>
            <a:ext cx="511344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695920" cy="345744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–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 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Recode into differ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508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Choose the variable to recode from the list and click the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68360" y="3429000"/>
            <a:ext cx="15127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050920" y="2781360"/>
            <a:ext cx="4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588000" y="162864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Choose a name and label for the new recoded variable and click “Chan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4643280" y="1916280"/>
            <a:ext cx="144000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2340000" y="371628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067280" y="537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Click on “Old and New Values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900000" y="3715920"/>
            <a:ext cx="7164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V="1">
            <a:off x="1692360" y="3068280"/>
            <a:ext cx="36036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H="1">
            <a:off x="6084720" y="2349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H="1" flipV="1">
            <a:off x="3347640" y="4149360"/>
            <a:ext cx="1079640" cy="11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7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6912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ecode in SPSS - Recoding ethnicit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50920" y="53737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Select the old value from the left.  If a there are consecutive numbers changing to the same new value, you can use a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00720" y="148428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ype in the new value.  If the value is to be the same, you can click on “Copy old val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300720" y="29973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“Add” and repeat for the next ol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84360" y="1773360"/>
            <a:ext cx="194292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3780000" y="1989000"/>
            <a:ext cx="208728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55640" y="981000"/>
            <a:ext cx="3887640" cy="63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1 to 3 into new value 1 (Wh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mic Sans MS"/>
              </a:rPr>
              <a:t>Values 4 to 16 into new value 2 (ME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468360" y="4005360"/>
            <a:ext cx="28728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5724000" y="1700280"/>
            <a:ext cx="5763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987640" y="3357720"/>
            <a:ext cx="93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 flipH="1">
            <a:off x="3995280" y="3429000"/>
            <a:ext cx="23050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300720" y="414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“Continue” and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00720" y="494172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Check the new variable looks correct, compared with last one, and lab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de” made up a new variable by combining values in an old one.  COMPUTE makes up a new variable by combining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 new variable where males over 35 are value 1, and everyone else is value 0.  We need to combine two existing variables for “sex” and “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trying to create a statement which s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both  “sex” is “male”, and “age” variable equals “over 35”, code as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either “sex” isn’t “male”, or “age” isn’t  “over 35”, code as “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need to recreate this kind of statement in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086160" cy="48956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 note of the variables and values you’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form &gt;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696000" y="162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Type the name of the new variable. Label th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696000" y="2708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ype the number of the first value you wish to make a code for (usual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69600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lick on “I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0" y="2205000"/>
            <a:ext cx="183528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1979640" y="220500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324000" y="5877000"/>
            <a:ext cx="7207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1547640" y="1844640"/>
            <a:ext cx="4824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 flipV="1">
            <a:off x="2484000" y="2565360"/>
            <a:ext cx="381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 flipH="1">
            <a:off x="1258560" y="5013360"/>
            <a:ext cx="504180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6238800" cy="4608720"/>
          </a:xfrm>
          <a:prstGeom prst="rect">
            <a:avLst/>
          </a:prstGeom>
          <a:ln w="0">
            <a:noFill/>
          </a:ln>
        </p:spPr>
      </p:pic>
      <p:sp>
        <p:nvSpPr>
          <p:cNvPr id="24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lick on “Include if case satisfied condi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852640"/>
            <a:ext cx="28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Make up the formula using the variable list on the left, and the symbols and number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Use symbol “|” for the word “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443640" y="558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lick on Continue when the statemen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981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trying to create a formula in the white box that corresponds to our first writte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1908000" y="2133720"/>
            <a:ext cx="2303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0" y="3573360"/>
            <a:ext cx="180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 flipH="1">
            <a:off x="4284360" y="2205000"/>
            <a:ext cx="2087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 flipH="1">
            <a:off x="3851280" y="3068640"/>
            <a:ext cx="2448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"/>
          <p:cNvSpPr/>
          <p:nvPr/>
        </p:nvSpPr>
        <p:spPr>
          <a:xfrm>
            <a:off x="2627280" y="3860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 flipV="1">
            <a:off x="3132000" y="4076640"/>
            <a:ext cx="316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591000" cy="150804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 at the first COMPUT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95280" y="177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lick on Paste to create a Syntax with the first part of our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95280" y="4149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Click on “If” and do steps 6 to 9 with the second part of our statement so that both statements are now in the Syntax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95280" y="2276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Open  COMPUTE again and type in 0 for the sec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5"/>
          <p:cNvSpPr/>
          <p:nvPr/>
        </p:nvSpPr>
        <p:spPr>
          <a:xfrm>
            <a:off x="7956720" y="292428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3995640" y="2565360"/>
            <a:ext cx="3961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905440" cy="3452760"/>
          </a:xfrm>
          <a:prstGeom prst="rect">
            <a:avLst/>
          </a:prstGeom>
          <a:ln w="0">
            <a:noFill/>
          </a:ln>
        </p:spPr>
      </p:pic>
      <p:sp>
        <p:nvSpPr>
          <p:cNvPr id="2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mpute in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72360" y="1413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. Make sure there is only one Execute line, at the end (delete any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372360" y="2708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. Select and run th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24000" y="5732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 Check that the new variable looks right (right cases selected), and label the new value in Variabl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1186920" y="1916280"/>
            <a:ext cx="518508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179280" y="2565360"/>
            <a:ext cx="936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3390840" cy="8668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3"/>
          <p:cNvSpPr/>
          <p:nvPr/>
        </p:nvSpPr>
        <p:spPr>
          <a:xfrm>
            <a:off x="3564000" y="472428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unning the command, the bottom right of the spreadsheet says “Running EXECUT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50920" y="5300640"/>
            <a:ext cx="129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1908000" y="5157720"/>
            <a:ext cx="165744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ture of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ing (turn into numerical by giving values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(o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xplanat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8028000" y="5013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all data is only collected in a randomly sampled survey, demographic characteristics (e.g. gender, social class, age) are used to compare the sample with the wider population to see how typical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found to be differences, statisticians can provide a formula which, when run in SPSS, will realign the sample with the population.  The formula is presented as a variable, that can be turned on or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known as “weighting” the data.  SPSS has an weighting button to turn the weighting on, and this should be done before any statistical test is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CS, the weighting variable is at the end of the datas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wgt - Respondent weight after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8028000" y="5013360"/>
            <a:ext cx="692280" cy="59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6712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ighting BC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46836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the weighing scales icon, or vi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“weight cases b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 Either press OK to activate the weighting, or press Paste to produce a readout of your action (and then run the synta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Always take off the weighting before saving a fi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995640" y="191628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 From near end of list on the left hand side, select the weighting variable 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dent weight after calibr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and click on the arrow to bring it across to the little white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1979640" y="2349360"/>
            <a:ext cx="1295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84360" y="2852640"/>
            <a:ext cx="129528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6948360" y="1268280"/>
            <a:ext cx="4287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24000" y="126828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you run an process, the output log will give you the syntax outlining what you told SPSS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959280" y="1125360"/>
            <a:ext cx="5184720" cy="2090880"/>
          </a:xfrm>
          <a:prstGeom prst="rect">
            <a:avLst/>
          </a:prstGeom>
          <a:ln w="0">
            <a:noFill/>
          </a:ln>
        </p:spPr>
      </p:pic>
      <p:sp>
        <p:nvSpPr>
          <p:cNvPr id="299" name="Line 7"/>
          <p:cNvSpPr/>
          <p:nvPr/>
        </p:nvSpPr>
        <p:spPr>
          <a:xfrm flipV="1">
            <a:off x="3203640" y="1844280"/>
            <a:ext cx="12254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24000" y="3500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el and save this as you g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2"/>
          <a:stretch/>
        </p:blipFill>
        <p:spPr>
          <a:xfrm>
            <a:off x="250920" y="3987720"/>
            <a:ext cx="7345440" cy="2870280"/>
          </a:xfrm>
          <a:prstGeom prst="rect">
            <a:avLst/>
          </a:prstGeom>
          <a:ln w="0">
            <a:noFill/>
          </a:ln>
        </p:spPr>
      </p:pic>
      <p:sp>
        <p:nvSpPr>
          <p:cNvPr id="302" name="Oval 11"/>
          <p:cNvSpPr/>
          <p:nvPr/>
        </p:nvSpPr>
        <p:spPr>
          <a:xfrm>
            <a:off x="468360" y="4149720"/>
            <a:ext cx="19429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3059280" y="4149720"/>
            <a:ext cx="2808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3059280" y="5877000"/>
            <a:ext cx="360036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116000" y="3860640"/>
            <a:ext cx="57636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042920" y="3860640"/>
            <a:ext cx="2376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SS stores deals in Syntax language.  It is a straightforward to follow “formal logic” language (e.g. If x variable = 1, then do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ssential that you keep a syntax record of every process that was done; so that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in the future how variables were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a syntax again without going though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syntax in the output file.  You can then run the syntax again by copying and pasting into the Syntax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Running a process using existing SPSS SYNTA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596088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611280" y="1341360"/>
            <a:ext cx="7848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nd copy a syntax command from a saved output log file (without any of your labels or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the Syntax Editor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le&gt;New&gt;Syn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e the command into the Synta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sure that the command lines are still highlighted (otherwise, select them again), run the selection (Run&gt;Se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00000" y="4653000"/>
            <a:ext cx="3816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H="1">
            <a:off x="2556000" y="3716280"/>
            <a:ext cx="712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6732720" y="371628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5364000" y="4365720"/>
            <a:ext cx="198144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Types of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tests on one variable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quencies (percen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ffect of one variable o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ss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variables linked (tests of asso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whether link is causal (corre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ich of many variables has strongest effect on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3384720" cy="148572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468720" y="1052280"/>
            <a:ext cx="961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sheet package that allows you to run statist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view where you set up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view where you enter and analys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60360" y="328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350028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3708360" y="3139920"/>
            <a:ext cx="3600360" cy="6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0" y="450864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mic Sans MS"/>
              </a:rPr>
              <a:t>BCS in SPSS Variable View</a:t>
            </a: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179280" y="4862520"/>
            <a:ext cx="8069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full dataset; 377 variables in slimmed down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16000" y="3573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500720" y="3573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240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-468720" y="1268280"/>
            <a:ext cx="961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fbfbf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story so far…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187280" y="3357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00720" y="3357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BCS in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511344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240000" cy="1946160"/>
          </a:xfrm>
          <a:prstGeom prst="rect">
            <a:avLst/>
          </a:prstGeom>
          <a:ln w="0">
            <a:noFill/>
          </a:ln>
        </p:spPr>
      </p:pic>
      <p:sp>
        <p:nvSpPr>
          <p:cNvPr id="85" name="Oval 8"/>
          <p:cNvSpPr/>
          <p:nvPr/>
        </p:nvSpPr>
        <p:spPr>
          <a:xfrm>
            <a:off x="684360" y="1197000"/>
            <a:ext cx="1655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900000" y="2349360"/>
            <a:ext cx="7775640" cy="356976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‘sample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1"/>
          <p:cNvSpPr/>
          <p:nvPr/>
        </p:nvSpPr>
        <p:spPr>
          <a:xfrm>
            <a:off x="1258920" y="1916280"/>
            <a:ext cx="14436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2"/>
          <p:cNvSpPr/>
          <p:nvPr/>
        </p:nvSpPr>
        <p:spPr>
          <a:xfrm>
            <a:off x="2556000" y="1557360"/>
            <a:ext cx="3528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ampling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980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’ is the selection of a smaller number of cases than the population which should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a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any cases do we need to se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ampling this lecture thea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er the proportion of cases I have, the higher the probability that the sample will be representative. If I have all the cases in the population, I don’t need statis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tatistical tests employ similar probability measures to assess statistical signifi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5:11Z</dcterms:modified>
  <cp:revision>156</cp:revision>
  <dc:subject/>
  <dc:title>Slide 1</dc:title>
</cp:coreProperties>
</file>